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type.wav" ContentType="audio/x-wav"/>
  <Override PartName="/ppt/media/whoosh.wav" ContentType="audio/x-wav"/>
  <Override PartName="/ppt/media/image4.jpeg" ContentType="image/jpeg"/>
  <Override PartName="/ppt/media/cashreg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media/DRUMROLL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  <p:custShowLst>
    <p:custShow name="Custom Show 1" id="0">
      <p:sldLst>
        <p:sld r:id="rId18"/>
        <p:sld r:id="rId19"/>
        <p:sld r:id="rId2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9B3-1649-4662-8014-32E78527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88D-8EAE-4386-8EA4-D9EDEF4A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14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5AA-3B14-4523-87FA-18AAA008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568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556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568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556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427-3B1F-4B05-AB51-4C2D695F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51FF-4AE2-44A9-8751-E52F566F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684-3883-4C34-9A78-EFCB8970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B7CF-6038-4567-8593-F29BC689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1D3-FFC7-4061-8F76-2E3EB00E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476-517A-4900-A214-ED86CF2F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4F5-4993-4AFE-9B21-B0B16F88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14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0EA-D2D7-446E-8457-4EBDC8BF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24F-B787-4469-828C-E7B35217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bith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abith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abith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2163-B631-4477-B16C-91143BB16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21080" y="2514600"/>
          <a:ext cx="4117680" cy="34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1080" y="2514600"/>
                    <a:ext cx="411768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879560" y="784080"/>
            <a:ext cx="5392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495680" y="44197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825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325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1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diez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86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87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4398840" y="224784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8023400">
              <a:off x="3941640" y="27982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cinco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diez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07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08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3771600">
              <a:off x="4893840" y="253152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025800">
              <a:off x="4647600" y="33523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ocho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cuarto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28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29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rot="5405400">
              <a:off x="5046480" y="283680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4618400">
              <a:off x="3979800" y="31824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tres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media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49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50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rot="10805400">
              <a:off x="4419000" y="350532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5425200">
              <a:off x="4893120" y="30297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54100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diez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menos veinte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70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71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 rot="3613200">
              <a:off x="3903480" y="3106800"/>
              <a:ext cx="422280" cy="12186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17599800">
              <a:off x="3979080" y="28018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5410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siete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menos cuarto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91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92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 flipV="1" rot="5379600">
              <a:off x="3751200" y="287712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rot="11991600">
              <a:off x="4224960" y="3429000"/>
              <a:ext cx="422280" cy="91404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447920" y="2362320"/>
            <a:ext cx="6172200" cy="20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A ti te toca!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Bar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21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21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 flipV="1" rot="10779600">
              <a:off x="2514240" y="144684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rot="16174800">
              <a:off x="1997640" y="22266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933440" y="2406600"/>
            <a:ext cx="34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nue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23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23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 flipV="1" rot="10780200">
              <a:off x="2514240" y="144684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rot="10794000">
              <a:off x="2513520" y="274284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976640" y="2133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se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en punto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25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25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rot="10819800">
              <a:off x="2513880" y="27424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rot="3463200">
              <a:off x="2912040" y="2039040"/>
              <a:ext cx="422280" cy="9147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999320" y="2085840"/>
            <a:ext cx="28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med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3720" y="600120"/>
            <a:ext cx="8497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Comic Sans MS"/>
              </a:rPr>
              <a:t>¿Cómo decimos la hora en español?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38080" y="1805040"/>
            <a:ext cx="7315200" cy="4431240"/>
            <a:chOff x="838080" y="1805040"/>
            <a:chExt cx="7315200" cy="4431240"/>
          </a:xfrm>
        </p:grpSpPr>
        <p:sp>
          <p:nvSpPr>
            <p:cNvPr id="47" name=""/>
            <p:cNvSpPr/>
            <p:nvPr/>
          </p:nvSpPr>
          <p:spPr>
            <a:xfrm>
              <a:off x="838080" y="3048120"/>
              <a:ext cx="7315200" cy="31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buClr>
                  <a:srgbClr val="ffffff"/>
                </a:buClr>
                <a:buFont typeface="Wingdings 2" charset="2"/>
                <a:buChar char="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 Sans MS"/>
                </a:rPr>
                <a:t>Son las ______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buClr>
                  <a:srgbClr val="ffffff"/>
                </a:buClr>
                <a:buFont typeface="Wingdings" charset="2"/>
                <a:buChar char="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 Sans MS"/>
                </a:rPr>
                <a:t>Es la _______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98640" y="1805040"/>
              <a:ext cx="5697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 Sans MS"/>
                </a:rPr>
                <a:t>Para decir la hora…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27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27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 rot="5419800">
              <a:off x="3141000" y="21160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rot="2227800">
              <a:off x="2742840" y="19047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251320" y="2085840"/>
            <a:ext cx="231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s la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cuar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29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29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 rot="3524400">
              <a:off x="2989080" y="181116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rot="5430000">
              <a:off x="2912760" y="22680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007600" y="208584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t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die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1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1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 rot="9028200">
              <a:off x="2777400" y="259056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rot="20432400">
              <a:off x="2362320" y="182844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12120" y="2085840"/>
            <a:ext cx="319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o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veinticin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3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3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 flipH="1" flipV="1" rot="9028200">
              <a:off x="2208240" y="15994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rot="12399000">
              <a:off x="2284560" y="26665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4897080" y="2085840"/>
            <a:ext cx="30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si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nos ci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5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5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 flipH="1" flipV="1" rot="5428800">
              <a:off x="1846080" y="211608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rot="3280800">
              <a:off x="2912760" y="19630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4680360" y="2085840"/>
            <a:ext cx="346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nos cuar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990720" y="2133720"/>
            <a:ext cx="7232400" cy="3581280"/>
            <a:chOff x="990720" y="2133720"/>
            <a:chExt cx="7232400" cy="3581280"/>
          </a:xfrm>
        </p:grpSpPr>
        <p:grpSp>
          <p:nvGrpSpPr>
            <p:cNvPr id="372" name=""/>
            <p:cNvGrpSpPr/>
            <p:nvPr/>
          </p:nvGrpSpPr>
          <p:grpSpPr>
            <a:xfrm>
              <a:off x="990720" y="2133720"/>
              <a:ext cx="2971800" cy="838080"/>
              <a:chOff x="990720" y="2133720"/>
              <a:chExt cx="2971800" cy="838080"/>
            </a:xfrm>
          </p:grpSpPr>
          <p:sp>
            <p:nvSpPr>
              <p:cNvPr id="373" name=""/>
              <p:cNvSpPr/>
              <p:nvPr/>
            </p:nvSpPr>
            <p:spPr>
              <a:xfrm>
                <a:off x="1447920" y="21337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5:30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990720" y="22096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998280" y="3505320"/>
              <a:ext cx="2963880" cy="838080"/>
              <a:chOff x="998280" y="3505320"/>
              <a:chExt cx="2963880" cy="838080"/>
            </a:xfrm>
          </p:grpSpPr>
          <p:sp>
            <p:nvSpPr>
              <p:cNvPr id="376" name=""/>
              <p:cNvSpPr/>
              <p:nvPr/>
            </p:nvSpPr>
            <p:spPr>
              <a:xfrm>
                <a:off x="1447560" y="35053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6:15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998280" y="35812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998280" y="4876920"/>
              <a:ext cx="2963880" cy="838080"/>
              <a:chOff x="998280" y="4876920"/>
              <a:chExt cx="2963880" cy="838080"/>
            </a:xfrm>
          </p:grpSpPr>
          <p:sp>
            <p:nvSpPr>
              <p:cNvPr id="379" name=""/>
              <p:cNvSpPr/>
              <p:nvPr/>
            </p:nvSpPr>
            <p:spPr>
              <a:xfrm>
                <a:off x="1447560" y="48769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8:40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998280" y="49528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954320" y="2133720"/>
              <a:ext cx="3268800" cy="838080"/>
              <a:chOff x="4954320" y="2133720"/>
              <a:chExt cx="3268800" cy="838080"/>
            </a:xfrm>
          </p:grpSpPr>
          <p:sp>
            <p:nvSpPr>
              <p:cNvPr id="382" name=""/>
              <p:cNvSpPr/>
              <p:nvPr/>
            </p:nvSpPr>
            <p:spPr>
              <a:xfrm>
                <a:off x="5403600" y="2133720"/>
                <a:ext cx="28195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12:00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954320" y="22096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4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4954320" y="3505320"/>
              <a:ext cx="3040200" cy="838080"/>
              <a:chOff x="4954320" y="3505320"/>
              <a:chExt cx="3040200" cy="838080"/>
            </a:xfrm>
          </p:grpSpPr>
          <p:sp>
            <p:nvSpPr>
              <p:cNvPr id="385" name=""/>
              <p:cNvSpPr/>
              <p:nvPr/>
            </p:nvSpPr>
            <p:spPr>
              <a:xfrm>
                <a:off x="5403600" y="3505320"/>
                <a:ext cx="25909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9:45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954320" y="35812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4954320" y="4876920"/>
              <a:ext cx="3040200" cy="838080"/>
              <a:chOff x="4954320" y="4876920"/>
              <a:chExt cx="3040200" cy="838080"/>
            </a:xfrm>
          </p:grpSpPr>
          <p:sp>
            <p:nvSpPr>
              <p:cNvPr id="388" name=""/>
              <p:cNvSpPr/>
              <p:nvPr/>
            </p:nvSpPr>
            <p:spPr>
              <a:xfrm>
                <a:off x="5403600" y="4876920"/>
                <a:ext cx="25909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1:25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954320" y="49528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6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0" name=""/>
          <p:cNvSpPr/>
          <p:nvPr/>
        </p:nvSpPr>
        <p:spPr>
          <a:xfrm>
            <a:off x="2114280" y="593640"/>
            <a:ext cx="492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5720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661040" y="593640"/>
            <a:ext cx="584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Jokerman"/>
              </a:rPr>
              <a:t>Las Respuestas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990720" y="2133720"/>
            <a:ext cx="2967120" cy="825480"/>
            <a:chOff x="990720" y="2133720"/>
            <a:chExt cx="2967120" cy="825480"/>
          </a:xfrm>
        </p:grpSpPr>
        <p:sp>
          <p:nvSpPr>
            <p:cNvPr id="394" name=""/>
            <p:cNvSpPr/>
            <p:nvPr/>
          </p:nvSpPr>
          <p:spPr>
            <a:xfrm>
              <a:off x="990720" y="22096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37840" y="2133720"/>
              <a:ext cx="252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cinco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dia de la tar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998280" y="4892760"/>
            <a:ext cx="3243240" cy="825480"/>
            <a:chOff x="998280" y="4892760"/>
            <a:chExt cx="3243240" cy="825480"/>
          </a:xfrm>
        </p:grpSpPr>
        <p:sp>
          <p:nvSpPr>
            <p:cNvPr id="397" name=""/>
            <p:cNvSpPr/>
            <p:nvPr/>
          </p:nvSpPr>
          <p:spPr>
            <a:xfrm>
              <a:off x="998280" y="49528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92120" y="4892760"/>
              <a:ext cx="284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nueve m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inte de la noch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98280" y="3505320"/>
            <a:ext cx="3304440" cy="825480"/>
            <a:chOff x="998280" y="3505320"/>
            <a:chExt cx="3304440" cy="825480"/>
          </a:xfrm>
        </p:grpSpPr>
        <p:sp>
          <p:nvSpPr>
            <p:cNvPr id="400" name=""/>
            <p:cNvSpPr/>
            <p:nvPr/>
          </p:nvSpPr>
          <p:spPr>
            <a:xfrm>
              <a:off x="998280" y="35812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77360" y="3505320"/>
              <a:ext cx="292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seis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arto de 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954320" y="1936800"/>
            <a:ext cx="2952360" cy="1191240"/>
            <a:chOff x="4954320" y="1936800"/>
            <a:chExt cx="2952360" cy="1191240"/>
          </a:xfrm>
        </p:grpSpPr>
        <p:sp>
          <p:nvSpPr>
            <p:cNvPr id="403" name=""/>
            <p:cNvSpPr/>
            <p:nvPr/>
          </p:nvSpPr>
          <p:spPr>
            <a:xfrm>
              <a:off x="4954320" y="22096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64880" y="1936800"/>
              <a:ext cx="234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doce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Es medianoch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954320" y="4648320"/>
            <a:ext cx="3084480" cy="1191240"/>
            <a:chOff x="4954320" y="4648320"/>
            <a:chExt cx="3084480" cy="1191240"/>
          </a:xfrm>
        </p:grpSpPr>
        <p:sp>
          <p:nvSpPr>
            <p:cNvPr id="406" name=""/>
            <p:cNvSpPr/>
            <p:nvPr/>
          </p:nvSpPr>
          <p:spPr>
            <a:xfrm>
              <a:off x="4954320" y="49528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78640" y="4648320"/>
              <a:ext cx="236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s la una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inticinco de l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r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954320" y="3505320"/>
            <a:ext cx="3386880" cy="825480"/>
            <a:chOff x="4954320" y="3505320"/>
            <a:chExt cx="3386880" cy="825480"/>
          </a:xfrm>
        </p:grpSpPr>
        <p:sp>
          <p:nvSpPr>
            <p:cNvPr id="409" name=""/>
            <p:cNvSpPr/>
            <p:nvPr/>
          </p:nvSpPr>
          <p:spPr>
            <a:xfrm>
              <a:off x="4954320" y="35812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15840" y="3505320"/>
              <a:ext cx="292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diez m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arto de 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495680"/>
            <a:ext cx="7086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a la medi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 medi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51768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espués de l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2498760"/>
            <a:ext cx="5791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a la cuart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 cuarto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24160" y="461880"/>
            <a:ext cx="81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ro,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despué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de la medi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6000" y="2057400"/>
            <a:ext cx="4191120" cy="3809880"/>
            <a:chOff x="2286000" y="2057400"/>
            <a:chExt cx="4191120" cy="3809880"/>
          </a:xfrm>
        </p:grpSpPr>
        <p:sp>
          <p:nvSpPr>
            <p:cNvPr id="54" name=""/>
            <p:cNvSpPr/>
            <p:nvPr/>
          </p:nvSpPr>
          <p:spPr>
            <a:xfrm>
              <a:off x="2286000" y="2057400"/>
              <a:ext cx="3886200" cy="38098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67080" y="2057400"/>
              <a:ext cx="0" cy="38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76920" y="356544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…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y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724280" y="2437920"/>
              <a:ext cx="0" cy="304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733920" y="2437920"/>
              <a:ext cx="0" cy="304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13560" y="2419200"/>
              <a:ext cx="6091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682640" y="685800"/>
            <a:ext cx="6048720" cy="1582920"/>
            <a:chOff x="1682640" y="685800"/>
            <a:chExt cx="6048720" cy="1582920"/>
          </a:xfrm>
        </p:grpSpPr>
        <p:sp>
          <p:nvSpPr>
            <p:cNvPr id="61" name=""/>
            <p:cNvSpPr/>
            <p:nvPr/>
          </p:nvSpPr>
          <p:spPr>
            <a:xfrm>
              <a:off x="1682640" y="1092240"/>
              <a:ext cx="180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It i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92560" y="685800"/>
              <a:ext cx="263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Son la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01120" y="10875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16680" y="1565280"/>
              <a:ext cx="202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Es la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641960" y="3828960"/>
            <a:ext cx="5551200" cy="1582920"/>
            <a:chOff x="1641960" y="3828960"/>
            <a:chExt cx="5551200" cy="1582920"/>
          </a:xfrm>
        </p:grpSpPr>
        <p:sp>
          <p:nvSpPr>
            <p:cNvPr id="66" name=""/>
            <p:cNvSpPr/>
            <p:nvPr/>
          </p:nvSpPr>
          <p:spPr>
            <a:xfrm>
              <a:off x="1641960" y="4235400"/>
              <a:ext cx="145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At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28920" y="3828960"/>
              <a:ext cx="206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A la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07600" y="4230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26760" y="4708440"/>
              <a:ext cx="182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A la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374920" y="2435400"/>
            <a:ext cx="44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 la una de la tar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21840" y="5546880"/>
            <a:ext cx="669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ngo clase a la una de la tar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5486400" cy="2733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8000" y="1916280"/>
            <a:ext cx="6264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of the morning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58920" y="836640"/>
            <a:ext cx="532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de la ma</a:t>
            </a: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ñan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3463920" cy="3970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050920" y="1628640"/>
            <a:ext cx="6264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of the afterno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58920" y="836640"/>
            <a:ext cx="532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de la tar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4360" y="2786040"/>
            <a:ext cx="4751280" cy="3564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050920" y="1844640"/>
            <a:ext cx="6264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of the evening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58920" y="836640"/>
            <a:ext cx="532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de la noch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3621240" cy="365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58920" y="836640"/>
            <a:ext cx="532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de la madrugad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1916280"/>
            <a:ext cx="6264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of the early morning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00:58:34Z</dcterms:created>
  <dc:creator>Craig Tillmann</dc:creator>
  <dc:description/>
  <dc:language>en-US</dc:language>
  <cp:lastModifiedBy>Alice</cp:lastModifiedBy>
  <dcterms:modified xsi:type="dcterms:W3CDTF">2008-05-20T16:14:46Z</dcterms:modified>
  <cp:revision>28</cp:revision>
  <dc:subject/>
  <dc:title>No Slide Title</dc:title>
</cp:coreProperties>
</file>